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1D10-F4DF-496D-8011-C8FB2B1C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6F94-AF7A-4190-A2E5-1F612D9A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A704-3822-44D3-B33A-E2BD489B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2853-39B6-4E49-832E-2FA044F8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F97D-2338-4F6F-8872-C95A4CE3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B0BC-F4A9-4077-B4D3-025E3DE2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B803-D2A8-4452-AF8C-15C62E5F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7636-262E-4AE4-AE58-6FAFE383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3538-B6C7-4B73-AC55-AA5C744C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5B11-88A9-43D7-8484-48A26D9F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25DA-8A96-4390-BCA0-2C322A52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462B-B964-4462-868E-C539E1CA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0496-BE99-4163-9054-484D7A23E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Safet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o you know what these a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2387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Answer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62320" y="1247760"/>
            <a:ext cx="46767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ymbols at Hom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952880" cy="1685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219320" y="3962520"/>
            <a:ext cx="67053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 do you know the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62940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35:39Z</dcterms:created>
  <dc:creator>User</dc:creator>
  <dc:description/>
  <dc:language>en-US</dc:language>
  <cp:lastModifiedBy>User</cp:lastModifiedBy>
  <dcterms:modified xsi:type="dcterms:W3CDTF">2010-09-13T16:47:12Z</dcterms:modified>
  <cp:revision>4</cp:revision>
  <dc:subject/>
  <dc:title>Classification of Matter</dc:title>
</cp:coreProperties>
</file>